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54F0-1FC1-457E-B3F8-936B3327A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31B1-81E9-4E17-B4E2-FE57FBE9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2837-B3AD-4808-8315-6E175CA5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B245-1FA0-45B9-BF03-2B6A3332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3157-AD93-4386-AC5B-A9F9E71DA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E80B-4B57-4849-9BF6-5FDA040E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6EC7-5A90-4C9A-97A6-A4912AAF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8434-4D25-4432-AF49-350BA77A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286F-7332-458D-A101-D3BE5B20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723E-BEB0-4EFF-8096-9465C5A4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CE51-9966-48FB-AEC4-8618753C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A327-C675-4253-AFA9-25663251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B976-9640-4909-8CFA-E0F8C876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3DBB-3F76-463F-B5B1-9E40AE9B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92B4-DE21-4408-9FDD-2E2C4F25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C01D-7A3F-4DBE-AFBA-6803DC17B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CBAD-B55D-495D-A7DB-1BE78B659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573842-C132-4BDA-8C9E-08D063A96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82A7DA-E46A-4700-B677-D8C2CDE2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E411E4-CC67-4E2E-9267-AD54EA0D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3ECF76-36F7-4778-9A52-3A4D9BEE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47D0E8-170B-4303-8030-FD0C3FB9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424E-2A22-4890-833C-0044C297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1390A8-075A-496A-9CB1-178F8237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1B99C6-74FC-491C-B609-37AA6B53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E9AC58-F170-48E1-8EE9-53BBF6FE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4AEEF0-D32A-4CB7-BF51-67973F07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4025B6-2CB2-4222-8600-98B58362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059D17-A4E2-4625-A171-E8081EBCD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8B0B86-9C2B-4F0E-B9F8-D830E4E6E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56310-E0C2-4E94-AB73-AFFD95755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6BD00-0E2A-43E5-B8D9-0176FCAB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03EB4-3CAE-41E7-8CBB-036634A4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32CF-FEC6-415D-94E8-15F03B6C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81025-B8A5-4164-9AAD-FC5DC97C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2D6D9-36F0-4457-BBE1-93EAC0A2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0ECBF-9C1E-4348-817A-6CEA3796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3E667-371A-4D38-BB3A-9A38150C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B158C-DD55-4973-BB61-807AB0E8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8087B-EB8C-43F7-B4BB-FE46BC51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83448-2A78-4704-A32F-12D9BB01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59C4F-70D9-42BE-BE83-A75765C20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DA191-E610-4EB1-844B-BA9C9D8C7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848220-C2A6-4F0F-840F-980D6A8C9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DF2A-7E53-4FAC-8239-EA813EBF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7C5E8E-8B34-4689-A725-56AA2742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79DF01-4D0D-44C0-9004-68C5F57E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673694-5129-465D-A9F7-2474DE65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2EFAB0-47D0-4C53-A421-DA950A6C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5EE99D-2B8B-4395-AE43-4BC96206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824612-D7F8-4CAC-A05C-C87E25D0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13EFF4-8C27-45E9-AF7E-7C66108C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4DC1B5-359B-4C1B-BE80-0ABF8B71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E004D1-DC9C-41B9-8A86-F56EB05F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0AA8DE-B716-4087-9727-BC173E102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5E23-4010-4CA9-A6DD-475C5B57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14EDC7-1BCA-4887-B10D-B6D86AC42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F355D0-EFB5-4A66-851E-B401E1CC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9D483E-0287-446F-B612-AAD9840F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808EF3-46E2-4DE9-B89C-5135415B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64BC31-F2B0-4D1A-B075-49E4B854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1CBB7A-C1F8-4DEA-9628-8A9A26AB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4A83A6-D730-4A21-B230-503CD1DE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679EFA-2AC6-4105-9A5F-65B996BB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8F9046-B7FA-4CD2-A7C8-91556904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7F1F05-2C13-480F-8E1E-22641A6F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63D6-7D91-402C-B6BA-9DF260AA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57037E-643E-4B6F-8C2A-8D2BFC54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80AB6C-1103-4002-A1B9-0E87BEF3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5239DB-7BE9-4DCF-9D66-237B40F6E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0876DA-8B14-4160-9F7E-8368D28B3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E47BFB-9A71-4DC5-B61C-9F10FEBF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BEC4F7-9833-493C-B319-EC97B33C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48B667-B0C0-4A08-B067-C0C79FF8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AF4DEF-3D1E-4CD5-AB67-80112D40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87A80A-39BD-41CD-BCE8-8B63BB6D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515501-8237-416C-80FF-BEF3B67F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C59A-04CC-4F5D-BA60-C6455DCD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C8C31B-C0C8-496C-86CC-FC8477B1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BF083C-B2E1-4D2E-8E55-B47088CA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21D7C2-9423-4303-BCD7-7FB0EECB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DA3E45-8E9B-4E7D-BFB0-06DBE9877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849257-87A9-4F0E-A904-667E8F36C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00CF-BCE6-43E3-B0F9-61A3BF78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D3BF-E57E-4B5C-A363-1C5B834F13E5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tangolo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ttangolo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ttangolo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ttangolo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Connettore 1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Connettore 1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Connettore 1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Connettore 1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Connettore 1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Connettore 1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ttangolo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e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e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e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e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e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F127-2E97-49BA-AF00-6E8BC7738B82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9DC7-4B46-4D8B-89E2-2A4F138DF166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tangolo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ttangolo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ttangolo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ttangolo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Connettore 1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Connettore 1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Connettore 1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Connettore 1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Connettore 1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ttangol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e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e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e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Connettore 1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F9F4-57E6-4011-BA54-9B03AB472E37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EE5D-47A4-4C2C-B4CB-057D6E99836C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nettore 1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Connettore 1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Connettore 1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Connettore 1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ttangolo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Connettore 1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e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B3BA-7F63-475A-870F-21CA99C98B2E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nettore 1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e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Connettore 1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ttangol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Connettore 1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Connettore 1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Connettore 1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E8FA-FF90-40F2-B2FC-FF6080422D05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95280" y="62028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4e5b6f"/>
                </a:solidFill>
                <a:latin typeface="Century Schoolbook"/>
              </a:rPr>
              <a:t>“</a:t>
            </a:r>
            <a:r>
              <a:rPr b="1" lang="es-ES" sz="6000" spc="-1" strike="noStrike">
                <a:solidFill>
                  <a:srgbClr val="4e5b6f"/>
                </a:solidFill>
                <a:latin typeface="Century Schoolbook"/>
              </a:rPr>
              <a:t>YO ME PARTO”</a:t>
            </a:r>
            <a:endParaRPr b="0" lang="en-US" sz="6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2852280"/>
            <a:ext cx="6172200" cy="35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5b6f"/>
                </a:solidFill>
                <a:latin typeface="Century Schoolbook"/>
              </a:rPr>
              <a:t>EL LENGUAJE DEL HUMO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e5b6f"/>
                </a:solidFill>
                <a:latin typeface="Century Schoolbook"/>
              </a:rPr>
              <a:t>Mª Eugenia Brime Bertrand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e5b6f"/>
                </a:solidFill>
                <a:latin typeface="Century Schoolbook"/>
              </a:rPr>
              <a:t>Università degli Studi di Napoli Federico II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Immagine 3" descr="ChisteForges2.jpg"/>
          <p:cNvPicPr/>
          <p:nvPr/>
        </p:nvPicPr>
        <p:blipFill>
          <a:blip r:embed="rId1"/>
          <a:stretch/>
        </p:blipFill>
        <p:spPr>
          <a:xfrm>
            <a:off x="611280" y="3141720"/>
            <a:ext cx="38163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e5b6f"/>
                </a:solidFill>
                <a:latin typeface="Century Schoolbook"/>
              </a:rPr>
              <a:t>DEFINICIÓN DE HUMOR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355" name="Picture 6" descr=""/>
          <p:cNvPicPr/>
          <p:nvPr/>
        </p:nvPicPr>
        <p:blipFill>
          <a:blip r:embed="rId1"/>
          <a:stretch/>
        </p:blipFill>
        <p:spPr>
          <a:xfrm>
            <a:off x="2771640" y="2852640"/>
            <a:ext cx="5256360" cy="3745080"/>
          </a:xfrm>
          <a:prstGeom prst="rect">
            <a:avLst/>
          </a:prstGeom>
          <a:ln w="0">
            <a:noFill/>
          </a:ln>
        </p:spPr>
      </p:pic>
      <p:sp>
        <p:nvSpPr>
          <p:cNvPr id="356" name="PubOvalCallout"/>
          <p:cNvSpPr/>
          <p:nvPr/>
        </p:nvSpPr>
        <p:spPr>
          <a:xfrm>
            <a:off x="250920" y="1844640"/>
            <a:ext cx="4681440" cy="28796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entury Schoolbook"/>
              </a:rPr>
              <a:t>La palabra humor proviene de la palabra latina </a:t>
            </a:r>
            <a:r>
              <a:rPr b="0" i="1" lang="es-ES" sz="1000" spc="-1" strike="noStrike">
                <a:solidFill>
                  <a:srgbClr val="000000"/>
                </a:solidFill>
                <a:latin typeface="Century Schoolbook"/>
              </a:rPr>
              <a:t>umor</a:t>
            </a:r>
            <a:r>
              <a:rPr b="0" lang="es-ES" sz="1000" spc="-1" strike="noStrike">
                <a:solidFill>
                  <a:srgbClr val="000000"/>
                </a:solidFill>
                <a:latin typeface="Century Schoolbook"/>
              </a:rPr>
              <a:t> y del vocablo medieval humor, siendo ambos términos médicos que significan disposición biológica o temperamento. El humor se define comúnmente, y no sólo en psicología, como estado de ánimo, disposición del espíritu o del carácter. Es por tanto, un estado emocional o afectivo de relativa larga duración que determina en un individuo el realizar ciertas asociaciones mentales con cosas agradables o desagradables, según  el humor que posea un </a:t>
            </a:r>
            <a:r>
              <a:rPr b="0" lang="es-E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Century Schoolbook"/>
              </a:rPr>
              <a:t>momento dado.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382360" y="1497240"/>
            <a:ext cx="2765160" cy="1527120"/>
          </a:xfrm>
          <a:prstGeom prst="rect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Century Schoolbook"/>
              </a:rPr>
              <a:t>Humor también es la disposición para hacer algo o el estado afectivo que se mantiene por cierto tiempo. Se habla de buen humor cuando existe una propensión a mostrarse alegre y de mal humor cuando la actitud es negativa o irritada.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Rettangolo 10"/>
          <p:cNvSpPr/>
          <p:nvPr/>
        </p:nvSpPr>
        <p:spPr>
          <a:xfrm>
            <a:off x="3492360" y="4437000"/>
            <a:ext cx="403236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entury Schoolbook"/>
              </a:rPr>
              <a:t>Genio, carácter, condición e índole denotan un complejo de cualidades permanentes en una pesona. El humor y el temple denotan una disposición de ánimo que puede ser permanente o variable. Un hombre de genio o carácter bondadoso y apacible puede estar un día de mal humor o de mal temple, y sorprendernos con asperezas que contradicen su índole o condición; o bien, una persona intratable nos acoge con amabilidad inesperada en un momento de buen humor.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e5b6f"/>
                </a:solidFill>
                <a:latin typeface="Century Schoolbook"/>
              </a:rPr>
              <a:t>TIPOS DE HUMOR I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HUMOR VERBAL</a:t>
            </a: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:  la ironía, el sarcasmo, la hipérbole, el anticlímax ("Dios ha muerto, Nietzsche ha muerto y yo no gozo de buena salud", Woody Allen), el enigma o definición incompleta o elíptica, la antítesis, el oxímoron, la atenuación o litotes, la alusión, el non sequitur, la silepsis, el juego de palabras, la sátira, la parodia o la paradoja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HUMOR DE SITUACIÓN: </a:t>
            </a: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gestos, posturas, caídas, resbalones, etc..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e5b6f"/>
                </a:solidFill>
                <a:latin typeface="Century Schoolbook"/>
              </a:rPr>
              <a:t>TIPOS DE HUMOR II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HUMOR ABSURDO: </a:t>
            </a:r>
            <a:r>
              <a:rPr b="0" lang="es-ES" sz="1300" spc="-1" strike="noStrike">
                <a:solidFill>
                  <a:srgbClr val="000000"/>
                </a:solidFill>
                <a:latin typeface="Century Schoolbook"/>
              </a:rPr>
              <a:t>se vale de las situaciones disparatadas o incoherentes para generar la risa en el público, su comicidad se basa en la irracionalidad. Es un humor totalmente alejado de la realidad pero que a la vez nos sumerge en lo esencial de ella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HUMOR INTELIGENTE: </a:t>
            </a: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va dirigido a un público particularmente preparado visual e intelectualmente, con una sensibilidad y experiencia vital determinada que le da capacidad para realizar todo el proceso propuesto desde las viñetas. Debe, pues, existir una complicidad entre autor y espectador.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HUMOR BLANCO: </a:t>
            </a:r>
            <a:r>
              <a:rPr b="0" lang="es-ES" sz="1300" spc="-1" strike="noStrike">
                <a:solidFill>
                  <a:srgbClr val="000000"/>
                </a:solidFill>
                <a:latin typeface="Century Schoolbook"/>
              </a:rPr>
              <a:t>tipo de humor que no contiene connotaciones ni denotaciones negativas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HUMOR NEGRO: </a:t>
            </a:r>
            <a:r>
              <a:rPr b="0" lang="es-ES" sz="1300" spc="-1" strike="noStrike">
                <a:solidFill>
                  <a:srgbClr val="000000"/>
                </a:solidFill>
                <a:latin typeface="Century Schoolbook"/>
              </a:rPr>
              <a:t>se ejerce a propósito de cosas que suscitarían, contempladas desde otra perspectiva, piedad, terror, lástima o emociones parecidas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HUMOR VERDE: </a:t>
            </a:r>
            <a:r>
              <a:rPr b="0" lang="es-ES" sz="1300" spc="-1" strike="noStrike">
                <a:solidFill>
                  <a:srgbClr val="000000"/>
                </a:solidFill>
                <a:latin typeface="Century Schoolbook"/>
              </a:rPr>
              <a:t>basado en elementos de mal gusto y pícaro, como lenguaje soez, sexo, escatología, enfermedades repugnantes. Forma parte de la baja cultura, lo cual no quita que personas de todas las clases sociales puedan disfrutar y realizar este tipo de humor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HUMOR GRÁFICO: </a:t>
            </a:r>
            <a:r>
              <a:rPr b="0" lang="es-ES" sz="1300" spc="-1" strike="noStrike">
                <a:solidFill>
                  <a:srgbClr val="000000"/>
                </a:solidFill>
                <a:latin typeface="Century Schoolbook"/>
              </a:rPr>
              <a:t>gama diversa de obras gráficas realizadas para la prensa, desde chistes de una sola viñeta y caricaturas hasta verdaderas historietas, tiras cómicas e incluso planchas enteras. Todas abundan en la sátira de la actualidad política y social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e5b6f"/>
                </a:solidFill>
                <a:latin typeface="Century Schoolbook"/>
              </a:rPr>
              <a:t>¿QUÉ OPINAS?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68000" y="21337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“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l sentido del humor es la capacidad que tiene uno de reírse de sus propias imperfecciones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risa es asunto de gente seria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l humor, la risa es la mayor prueba de inteligencia del ser humano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s más fácil hacer llorar que hacer reír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l modo cómo se ríe un pueblo es el mejor índice de su cultura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e5b6f"/>
                </a:solidFill>
                <a:latin typeface="Century Schoolbook"/>
              </a:rPr>
              <a:t>¿CÓMO SE CREA?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¿Cuáles son los ingredientes idóneos para conseguir que tú te rí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368" name="Picture 3" descr=""/>
          <p:cNvPicPr/>
          <p:nvPr/>
        </p:nvPicPr>
        <p:blipFill>
          <a:blip r:embed="rId1"/>
          <a:stretch/>
        </p:blipFill>
        <p:spPr>
          <a:xfrm>
            <a:off x="1476360" y="2421000"/>
            <a:ext cx="57625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09:26:24Z</dcterms:created>
  <dc:creator>Eugenia</dc:creator>
  <dc:description/>
  <dc:language>en-US</dc:language>
  <cp:lastModifiedBy>madrelingua</cp:lastModifiedBy>
  <dcterms:modified xsi:type="dcterms:W3CDTF">2012-03-19T09:04:04Z</dcterms:modified>
  <cp:revision>50</cp:revision>
  <dc:subject/>
  <dc:title>Diapositiva 1</dc:title>
</cp:coreProperties>
</file>